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shee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829-0BAF-4B38-9DEA-C0B2DD87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E44-97CE-4239-BE6D-19DEFCC1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389-5DB7-4F58-968A-F50BEF17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5D3-FD10-4E6A-918D-4363AC2E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7934-2468-43BF-A76E-3849D15E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7BE2-A5D6-4396-8D63-BEA4C5B7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AFCD-FCDE-4A34-9CA3-0DA77E0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4C74-C81E-4490-82FD-1667D407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C0F6-66B7-42CA-A6AE-3B1CF303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37AB-226F-47E8-94C5-A5AE3A7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B6D2-DDED-4F83-A990-950FBB9F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1DC-C7A9-4BB2-B196-848B7119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82D3-0EC5-4784-A643-3A522D96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DDF5-CD1E-4B3E-B602-0F1CAD66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48E8-343E-4159-A3AF-0B9F81F8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A1C6-85A4-4660-8DA8-52B4A221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5813-5037-406C-AE96-D0D8AC40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F3A-B38B-4A11-BBC7-4D5A81FB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08D-C83E-4F31-8A81-94075C78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722-418F-48B4-BE0C-FEC70AB3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CBA-22C1-417D-9049-EF685618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E4F-B850-403E-8488-2346261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E8C-BA1C-4D31-9637-4B859EB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F34-28E5-4D9C-A935-F77CAE8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564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9600" y="42951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0080" y="39985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7920" y="37396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7120" y="342288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8560" y="31687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6280" y="26254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056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60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5440" y="18151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3880" y="428040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60DB-69C0-45EF-BF16-5D2F9800B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2120" y="798480"/>
            <a:ext cx="7082280" cy="6859440"/>
            <a:chOff x="-312120" y="798480"/>
            <a:chExt cx="7082280" cy="68594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2120" y="798480"/>
              <a:ext cx="7082280" cy="6859440"/>
              <a:chOff x="-312120" y="798480"/>
              <a:chExt cx="7082280" cy="68594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2120" y="798480"/>
                <a:ext cx="7082280" cy="6859440"/>
                <a:chOff x="-312120" y="798480"/>
                <a:chExt cx="7082280" cy="68594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2120" y="798480"/>
                  <a:ext cx="7082280" cy="6859440"/>
                  <a:chOff x="-312120" y="798480"/>
                  <a:chExt cx="7082280" cy="68594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2120" y="798480"/>
                    <a:ext cx="7082280" cy="6859440"/>
                    <a:chOff x="-312120" y="798480"/>
                    <a:chExt cx="7082280" cy="68594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2120" y="805680"/>
                      <a:ext cx="7072560" cy="6852240"/>
                      <a:chOff x="-312120" y="805680"/>
                      <a:chExt cx="7072560" cy="68522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2120" y="805680"/>
                        <a:ext cx="7072560" cy="6852240"/>
                        <a:chOff x="-312120" y="805680"/>
                        <a:chExt cx="7072560" cy="68522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2120" y="1280880"/>
                          <a:ext cx="6462360" cy="6377040"/>
                          <a:chOff x="-312120" y="1280880"/>
                          <a:chExt cx="6462360" cy="637704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6560" y="451800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30600" y="292428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9680" y="240192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6720" y="2118240"/>
                            <a:ext cx="271584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2400" y="155484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58880" cy="4694040"/>
              <a:chOff x="1800" y="2127240"/>
              <a:chExt cx="525888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3880" y="2127240"/>
                <a:ext cx="496800" cy="490320"/>
                <a:chOff x="4763880" y="2127240"/>
                <a:chExt cx="496800" cy="4903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9720" y="2350440"/>
                  <a:ext cx="31428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76920" y="2249280"/>
                  <a:ext cx="25560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62960" y="2238120"/>
                  <a:ext cx="18216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26680" y="2134800"/>
                  <a:ext cx="22860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72480" y="2127240"/>
                  <a:ext cx="8820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72AD-19FA-45E7-BDAD-97A7616EEB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shee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Plural and Singular Noun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ject LA A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become a new word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o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gee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6" descr="goosefam"/>
          <p:cNvPicPr/>
          <p:nvPr/>
        </p:nvPicPr>
        <p:blipFill>
          <a:blip r:embed="rId1"/>
          <a:stretch/>
        </p:blipFill>
        <p:spPr>
          <a:xfrm>
            <a:off x="3581280" y="3962520"/>
            <a:ext cx="3124440" cy="2392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man-think"/>
          <p:cNvPicPr/>
          <p:nvPr/>
        </p:nvPicPr>
        <p:blipFill>
          <a:blip r:embed="rId2"/>
          <a:stretch/>
        </p:blipFill>
        <p:spPr>
          <a:xfrm>
            <a:off x="5181480" y="1447920"/>
            <a:ext cx="2067120" cy="2476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an-think"/>
          <p:cNvPicPr/>
          <p:nvPr/>
        </p:nvPicPr>
        <p:blipFill>
          <a:blip r:embed="rId3"/>
          <a:stretch/>
        </p:blipFill>
        <p:spPr>
          <a:xfrm>
            <a:off x="2819520" y="1486080"/>
            <a:ext cx="2057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al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oo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ian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py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bru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486400" y="3290760"/>
            <a:ext cx="236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hal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e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ian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i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brush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ous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em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l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ea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ild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486400" y="3290760"/>
            <a:ext cx="236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i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em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hel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lea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ild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re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ef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oma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hoto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AutoShape 4">
            <a:hlinkClick r:id="" action="ppaction://hlinkshowjump?jump=nextslide"/>
          </p:cNvPr>
          <p:cNvSpPr/>
          <p:nvPr/>
        </p:nvSpPr>
        <p:spPr>
          <a:xfrm>
            <a:off x="5105520" y="2286000"/>
            <a:ext cx="3124080" cy="2743200"/>
          </a:xfrm>
          <a:custGeom>
            <a:avLst/>
            <a:gdLst>
              <a:gd name="textAreaLeft" fmla="*/ 177480 w 3124080"/>
              <a:gd name="textAreaRight" fmla="*/ 2946600 w 312408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24599" h="21600">
                <a:moveTo>
                  <a:pt x="0" y="0"/>
                </a:moveTo>
                <a:lnTo>
                  <a:pt x="24599" y="0"/>
                </a:lnTo>
                <a:lnTo>
                  <a:pt x="24599" y="21600"/>
                </a:lnTo>
                <a:lnTo>
                  <a:pt x="0" y="21600"/>
                </a:lnTo>
                <a:close/>
              </a:path>
              <a:path fill="lightenLess" w="24599" h="21600">
                <a:moveTo>
                  <a:pt x="0" y="0"/>
                </a:moveTo>
                <a:lnTo>
                  <a:pt x="24599" y="0"/>
                </a:lnTo>
                <a:lnTo>
                  <a:pt x="23199" y="1400"/>
                </a:lnTo>
                <a:lnTo>
                  <a:pt x="1400" y="1400"/>
                </a:lnTo>
                <a:close/>
              </a:path>
              <a:path fill="darken" w="24599" h="21600">
                <a:moveTo>
                  <a:pt x="24599" y="0"/>
                </a:moveTo>
                <a:lnTo>
                  <a:pt x="24599" y="21600"/>
                </a:lnTo>
                <a:lnTo>
                  <a:pt x="23199" y="20200"/>
                </a:lnTo>
                <a:lnTo>
                  <a:pt x="23199" y="1400"/>
                </a:lnTo>
                <a:close/>
              </a:path>
              <a:path fill="darkenLess" w="24599" h="21600">
                <a:moveTo>
                  <a:pt x="2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99" y="20200"/>
                </a:lnTo>
                <a:close/>
              </a:path>
              <a:path fill="lighten" w="2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5486400" y="3290760"/>
            <a:ext cx="236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make these nouns plu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e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v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om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hoto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lural Nou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A plural form of a noun names more than one.  It usually ends with </a:t>
            </a:r>
            <a:r>
              <a:rPr b="0" i="1" lang="en-US" sz="54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0" i="1" lang="en-US" sz="5400" spc="-1" strike="noStrike">
                <a:solidFill>
                  <a:srgbClr val="ffffff"/>
                </a:solidFill>
                <a:latin typeface="Verdana"/>
              </a:rPr>
              <a:t>es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P if the noun below is plural.  Write S if the noun below is singu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b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ur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b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oo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2971800" y="41911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743200" y="48769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2743200" y="5638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2209680" y="6324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AutoShape 11">
            <a:hlinkClick r:id="" action="ppaction://hlinkshowjump?jump=nextslide"/>
          </p:cNvPr>
          <p:cNvSpPr/>
          <p:nvPr/>
        </p:nvSpPr>
        <p:spPr>
          <a:xfrm>
            <a:off x="6248520" y="2590920"/>
            <a:ext cx="2057400" cy="2057400"/>
          </a:xfrm>
          <a:custGeom>
            <a:avLst/>
            <a:gdLst>
              <a:gd name="textAreaLeft" fmla="*/ 133200 w 2057400"/>
              <a:gd name="textAreaRight" fmla="*/ 1924200 w 2057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7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6553080" y="3367080"/>
            <a:ext cx="1524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ANSW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P if the noun below is plural.  Write S if the noun below is singu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uses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by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urch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bles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ooks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99680" indent="-499680">
              <a:spcBef>
                <a:spcPts val="10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s       </a:t>
            </a: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2971800" y="41911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2743200" y="48769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2743200" y="5638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2209680" y="6324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11" descr="check1x"/>
          <p:cNvPicPr/>
          <p:nvPr/>
        </p:nvPicPr>
        <p:blipFill>
          <a:blip r:embed="rId1"/>
          <a:stretch/>
        </p:blipFill>
        <p:spPr>
          <a:xfrm>
            <a:off x="5943600" y="3200400"/>
            <a:ext cx="17715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make nouns plural that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u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ax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nc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sh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1828800" y="2133720"/>
            <a:ext cx="3808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1752480" y="3429000"/>
            <a:ext cx="38124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2133720" y="4648320"/>
            <a:ext cx="6094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1676520" y="594360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make nouns plural that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th a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consonant and a 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d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ad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r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1295280" y="1523880"/>
            <a:ext cx="685800" cy="609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990720" y="403848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8" descr="fries"/>
          <p:cNvPicPr/>
          <p:nvPr/>
        </p:nvPicPr>
        <p:blipFill>
          <a:blip r:embed="rId1"/>
          <a:stretch/>
        </p:blipFill>
        <p:spPr>
          <a:xfrm>
            <a:off x="3048120" y="3809880"/>
            <a:ext cx="3276360" cy="1965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LADIES"/>
          <p:cNvPicPr/>
          <p:nvPr/>
        </p:nvPicPr>
        <p:blipFill>
          <a:blip r:embed="rId2"/>
          <a:stretch/>
        </p:blipFill>
        <p:spPr>
          <a:xfrm>
            <a:off x="3276720" y="1447920"/>
            <a:ext cx="2019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that end in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v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lf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alv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nif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niv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523880" y="1447920"/>
            <a:ext cx="381240" cy="60948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600200" y="3962520"/>
            <a:ext cx="60948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8" descr="calf"/>
          <p:cNvPicPr/>
          <p:nvPr/>
        </p:nvPicPr>
        <p:blipFill>
          <a:blip r:embed="rId1"/>
          <a:stretch/>
        </p:blipFill>
        <p:spPr>
          <a:xfrm>
            <a:off x="3733920" y="1676520"/>
            <a:ext cx="3400200" cy="249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knife"/>
          <p:cNvPicPr/>
          <p:nvPr/>
        </p:nvPicPr>
        <p:blipFill>
          <a:blip r:embed="rId2"/>
          <a:stretch/>
        </p:blipFill>
        <p:spPr>
          <a:xfrm>
            <a:off x="3886200" y="4241880"/>
            <a:ext cx="35053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that end in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made plural.  Some change to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angaro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angaro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ota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otato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2743200" y="5486400"/>
            <a:ext cx="609480" cy="53352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4" name="Picture 8" descr="kangaroo"/>
          <p:cNvPicPr/>
          <p:nvPr/>
        </p:nvPicPr>
        <p:blipFill>
          <a:blip r:embed="rId1"/>
          <a:stretch/>
        </p:blipFill>
        <p:spPr>
          <a:xfrm>
            <a:off x="4800600" y="1295280"/>
            <a:ext cx="2971800" cy="2602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9"/>
          <p:cNvSpPr/>
          <p:nvPr/>
        </p:nvSpPr>
        <p:spPr>
          <a:xfrm>
            <a:off x="4495680" y="1219320"/>
            <a:ext cx="1067040" cy="533160"/>
          </a:xfrm>
          <a:prstGeom prst="rect">
            <a:avLst/>
          </a:prstGeom>
          <a:solidFill>
            <a:srgbClr val="6e7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Oval 10"/>
          <p:cNvSpPr/>
          <p:nvPr/>
        </p:nvSpPr>
        <p:spPr>
          <a:xfrm>
            <a:off x="3124080" y="3048120"/>
            <a:ext cx="609840" cy="53316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12" descr="potato1"/>
          <p:cNvPicPr/>
          <p:nvPr/>
        </p:nvPicPr>
        <p:blipFill>
          <a:blip r:embed="rId2"/>
          <a:stretch/>
        </p:blipFill>
        <p:spPr>
          <a:xfrm>
            <a:off x="4724280" y="4557600"/>
            <a:ext cx="25146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nouns do not change at all when made plur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ee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hee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Picture 9" descr="sheep-big"/>
          <p:cNvPicPr/>
          <p:nvPr/>
        </p:nvPicPr>
        <p:blipFill>
          <a:blip r:embed="rId1"/>
          <a:stretch/>
        </p:blipFill>
        <p:spPr>
          <a:xfrm>
            <a:off x="4267080" y="2133720"/>
            <a:ext cx="2381400" cy="19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eer"/>
          <p:cNvPicPr/>
          <p:nvPr/>
        </p:nvPicPr>
        <p:blipFill>
          <a:blip r:embed="rId2"/>
          <a:stretch/>
        </p:blipFill>
        <p:spPr>
          <a:xfrm>
            <a:off x="3200400" y="4267080"/>
            <a:ext cx="274320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h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01:32:27Z</dcterms:created>
  <dc:creator>Jefferson County Schools</dc:creator>
  <dc:description/>
  <dc:language>en-US</dc:language>
  <cp:lastModifiedBy>HPS</cp:lastModifiedBy>
  <dcterms:modified xsi:type="dcterms:W3CDTF">2012-12-12T19:48:02Z</dcterms:modified>
  <cp:revision>7</cp:revision>
  <dc:subject/>
  <dc:title>Plural and Singular Nouns</dc:title>
</cp:coreProperties>
</file>